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371-7B90-4605-B7D3-9EDFF571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12D-9DB2-4897-A8CE-7C74B066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2B3-25C5-490B-9711-DB9ADD91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9EA-0BCB-4B13-8ACE-96C31BEE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0FF-DBB2-4B58-8545-68D3E693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194-7284-4A68-B874-6AAC0652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FE5-0267-4DC6-A7EA-A6643F4D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EEA-B30C-4AA8-BF6C-FC54F165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C02-2BB9-48E6-97CC-05598E2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5B3-9BF8-4294-84F3-0BFD4074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13D-A6DA-4F3E-A718-95E2062B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DC4-2616-4B00-802E-EC083B17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35C1-29F1-4E60-99E2-060D17ADA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nca y competencia: la experiencia de los órganos de competencia en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blo S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uncia Conade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a no traspasa a usuarios, especialmente los más chicos, caída en T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a rentabilidad de la b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a clientes escasa y poco transpa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or transparencia de cob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cionar a Asociación de Ban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 Fiscal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direct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cedentes econó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bancos, pero sólo 5 concentran 7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bles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ólo ingresan bancos asociados a grandes t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 de sociedades de apoyo al g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económic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y uniformidad de tasas entre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 el 98 y el 2002 TPM baja 6,26 puntos porcentuales, la tasa agregada de colocación 4,36 y la de captación 4,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no ca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TPM es de corto plazo, mientras que agregadas incluyen operaciones de largo plazo y stock de colo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s promedios no distinguen clientes grandes de pequeños, competencia de banca internacional y des-intermediación en los prime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locidad de trans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udios usan datos mensuales con tasas de perí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stein y Flores datos 98-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es 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similar a México y el 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inoza-Vega y Rebu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algo menor que en Canadá, Australia y los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s de largo plazo responden más 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ía en la tasa de trasp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sación a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arjetas de créditos hay tres roles: emisor,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os y otras instituciones son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única empresa que cumple roles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es propiedad de bancos 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bros de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al comercio por  transacción y arriendo de term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cuenta de emisores comisión (promedio 2,3%) a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transacción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k devolvía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 2,4 por transacción a los emisores que son so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ctamen y Requerimiento F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abusa de su poder monopólico teniendo una rentabilidad de más de 50%, que disfraza a través de pagos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scrimina en las comisiones cobradas a los establecimientos comerci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a de la denunci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mercado relevante son todos los medios de pago (efectivo, cheques, tarjetas de créditos de casas comerciales 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debe incluir tarjeta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ercado con demanda b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uede haber competencia en emisión y abuso monopólico en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misores internalizan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allo del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ercado de servicios de tarjetas de crédito es de dos 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lataforma comercial que presta servicios a dos tipos de clientes, tarjetahabientes y comerciantes en este c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beneficios de un tipo de clientes aumentan con la participación del otro tipo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Mercados de dos l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tradicional puede conducir a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sub-mercados deben analizarse en forma conj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s pueden cobrar sólo a un tipo de cl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vistas y periódicos que se entregan gratuitamente a los lect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: arrendatarios y públ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dobe vende su producto Acrobat Exchange  y regala versión restringida que sólo permite le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puede darse al interior de la plataforma como entre distintas platafo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 de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unal de Defensa de la Li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ía Nacional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 rol investigador del rol jurisdi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alía representa interés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unal no puede actuar de o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a en base al expediente (bilateralida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etencia en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egurar que no hay rentas monopólicas 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transferencias entre Transbank y los emisores se realizan en función de las transac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competencia en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misores internalizan los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umento en la comisión que paga el comercio beneficiaría a a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lvo por el reparto de utilidades, los ingresos que reciben las instituciones financieras dependen directamente de las transacciones rea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Diferenciación de tarif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común ocurrencia en el caso de los mercados de 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íneas aér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ferenciación de precio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er s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s 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ede ser necesaria para el funcionamiento eficiente de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hay antecedentes que los descuentos por volumen que realiza Transbank estén fundados en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isiones a un mismo rubror fluctuaban entre 1% y 3,5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ciones: competencia en el sistema financi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ntración pueden afec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ncia (TB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o positivo sobre ahorro e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 de la política mone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ocidad de traspaso aumenta con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ntos controvert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do de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ción entre concentración 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ncieros no banc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rcad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intermediación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 (paquetes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 de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legales para preservar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ena regulación permit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conjunta de activo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de cajeros automáticos, depósito de valores, operador de sistema de tarj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cambio (ventaja de entrar a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rciales (costo recabar información sobre clientes y crear repu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estudio de cas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ión bancos Santander y Santiago, Fallo Comisión Resolutiva (enero 0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adecus contra Asociación de Bancos, Fallo Tribunal (abril 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sación a Transbank, Fallo Tribunal (Septiembre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entración Santander-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genera por fusión del BS y el BCH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 Bancos: fusiones requieren aprobación SBIF por tema solv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ción intenciones BSCH a la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unciaba a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inde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ción de participación de mercado (2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F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independiente no era creí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ción en participación afect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ia internacional: concentración bancaria perjudica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ían barreras legales y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 ante Comisión Resolu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r que operación era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zo de 18 meses para terminar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 fusión debía aprobarse por C. Preve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BSCH y ban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bar fusión era atribución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do relevante incluye a mayoría del mercado de capitales en el que tiene 1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ia empírica no permite concluir que concentración afecte a la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a la entrada irrelev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jó puntos de prue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de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o de competencia en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encia internacional sobre relación entre competencia y concent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atribuciones para analizar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ado relevante es más amplio que el de bancos e instituciones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os internacionales, des-intermediación financiera, casas comerciales, fondos mut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o está probado efecto negativo so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hazó requerimiento del 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jó sin efecto compromiso de reducir participación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endó a la Fiscalía vigilar las tasas de interés en comunas donde ambos bancos representaban más del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5:10:26Z</dcterms:created>
  <dc:creator>dii</dc:creator>
  <dc:description/>
  <dc:language>en-US</dc:language>
  <cp:lastModifiedBy>Pablo Serra</cp:lastModifiedBy>
  <dcterms:modified xsi:type="dcterms:W3CDTF">2005-11-14T15:35:56Z</dcterms:modified>
  <cp:revision>15</cp:revision>
  <dc:subject/>
  <dc:title>Banca y competencia: la experiencia de los órganos de competencia en Chile</dc:title>
</cp:coreProperties>
</file>